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9C029-14C9-42C9-9908-7A7EAEE02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4214B-9007-443E-9BF3-8AD5E4DC1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1F44-E8CE-4832-9DEA-FAFA614B3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3D936-93C3-4B0F-A1B6-2A8B9862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2F753-8C90-4922-9F04-04DA12A54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804DF-EF9E-4E5B-8AFF-B549FD9C9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72E9D-62E3-4368-8A13-F73B28C0A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193CD-D883-422A-B781-456522D1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D963A-CE6B-4ABE-BF38-4B873D95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6681-712B-4724-AA4E-1AFA8C58F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7804-2B68-47DD-98C2-D1713E2A3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4B55-4D08-4DA3-9653-BB3A1469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D97F-2026-4614-9726-B553870C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608ED-3038-4B25-A467-E330026DD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06A3A-9F52-40E8-AEDB-5B52B7218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0700C-B08E-4F42-936D-0A5AC8B6F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74942-4F67-43A3-9564-4958E7AF2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C643-F83F-4307-A64F-9D83529C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41A7E-E282-49EF-BD2B-66D5EA42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B4E7-BE6A-4556-9278-3E164BA69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666E-C28C-43A3-8B48-94841E78B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1F56-7C21-4355-A410-5459B4445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3244-B00E-445B-AD01-585A8A6C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BFE8-54DB-444E-B9C4-10F802C6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92C7-1C56-421B-BEA8-6B5AA80E36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FE67-0051-4F47-9852-18F77FFBB2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ssential Unit Question</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assess the validity of reports of historical eve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380880" y="56664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sides to every argument. However, the two sides are not always equal in truth, motive, or goodwill. Sometimes it is a matter of reality versus propaganda, of fact distracted by malice, of history challenged by bigotry and hatred. To ignore the challenge, however, is to risk the rewriting of history toward monstrous ends. In the case of the holocaust, it was to deny the massacre of millions and the possibility of the murder of millions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21:36:35Z</dcterms:created>
  <dc:creator>jstacy</dc:creator>
  <dc:description/>
  <dc:language>en-US</dc:language>
  <cp:lastModifiedBy>jstacy</cp:lastModifiedBy>
  <dcterms:modified xsi:type="dcterms:W3CDTF">2009-11-03T01:15:05Z</dcterms:modified>
  <cp:revision>2</cp:revision>
  <dc:subject/>
  <dc:title>Slide 1</dc:title>
</cp:coreProperties>
</file>